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7A43-3614-4C3A-BE17-F01DA5E28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D64D-B19E-4FB7-971F-77A0C2B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B3C5D-CB41-4CFD-BD2A-6D1C386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D9D6A-87AE-4217-BB44-A6FF2F32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3F8E5-90AA-4ADD-8DE2-11BC4961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DD147-9A8F-49FC-8AA3-5C46280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45A37-CD8B-4097-89F6-70AB0023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92A12-E0BB-4FB3-84C3-124EB39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839D0-E8A9-464F-9764-1ED7A3F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22B46-4C93-4771-B7AE-8D480313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36D0D-7E6F-4CA0-B6A3-2B982505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A3231-F82A-4B37-B360-E956CE85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81F-BCFE-4621-9C16-E54376C8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703B3-3691-4C09-B0F7-D979A68B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83F3E-182D-426E-9BE6-CFDE73A8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D5F5ED-9562-4C00-AE56-045ED7A2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D50B2-9BFB-4FB9-8F8A-79ACD82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83243-6784-4D48-9F9C-B987C2A0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8D532-7290-4D21-B8C5-07F7E09E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59591-9978-4F23-AB60-6837747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0F4D8-963F-4B17-B2EB-51828F6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B2C33-2625-418E-B779-0166AB85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809BC-A7F4-4492-B4BF-31D32304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4EC-6701-497E-8878-27846464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97620-2E61-447A-A022-856B2181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EA10-E48A-4615-865A-8040D3096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200E6-7FE1-4B5F-83B8-4BD759D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4A118-C7F1-4485-BAAC-79A99529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288A-BCD8-487E-A4BC-A8F74671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1AE91-9EBF-4E9F-801A-14B94194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E0EEA-7D2A-40A7-8BFD-357B5AD9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B2B2A-C816-4CCC-AC2D-0CC4821C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731FA-F37E-4331-8EED-28D4551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84639-2CE7-4A0F-A238-06C982A0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5D3D-6456-4129-94A5-91D2951B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E8D31-C770-44F7-BCF8-EEA0B658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2D9B5-9B9F-4C70-8B12-88004252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B5FCA-AC95-4D74-8E9A-BC0A8044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37B60-6114-4889-9D31-B3CE84BB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161FA-0903-4987-A5D5-E180570D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678E6-BEDC-42DC-8414-2AC4C312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AEC46-9ED9-461C-9EEF-03C23B73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7B3D3-F2FF-4F1C-96F5-E71B9F5D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343D8-5C24-4597-A709-19728946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633BF-A6F6-412D-AFE9-C0273E66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5BCD-E30C-4FE4-A7E2-3E8DA1E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381A3-2EF9-4820-A1A2-2819650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DD2AC-E9FC-4331-9C5C-45CF3C6F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41917-F30A-4B7A-AB2B-FBC43CF2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7B560-739C-47C2-9DC4-2BBE6A86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52172-D612-4629-B998-66FD1DCC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D1238-1E7C-4194-AF2E-02063F3D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0B83D2-7A18-476F-B09E-1A5FC7C1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7766E-27F7-4BAF-8AD1-B93C6B23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DB862-CCB0-48A5-882B-2A755E9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CD561-8CF8-4116-85AA-DF1520A8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D4D9-390F-4C57-92D6-833FF7E7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C2413-C04E-4C9A-8BA2-7B3E94BD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14912-5C24-459C-8AD5-8FF3E765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1D5EB-53C7-4ADE-A25E-8732792B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996A7-D4F5-483F-A372-4BF9E511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F1FF2-A07E-4930-889E-4F518688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4AD8B-4999-463C-9A56-295A7557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F5920-DC7A-4AF2-B7A8-126DA9BB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FF1FB-8B23-4118-AB34-0B51EB39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A411B-2527-418B-BAFA-DB01682B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3241B6-5699-4681-BD57-4A86F7EC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8184-B080-4FD8-843E-84A18ED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ED15F-2013-46C0-91B7-59B82DC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0F7AF-10E6-489F-BA99-2A321D81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78BEC-F4E2-47E2-AC01-BF37E13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6B9FE-F5C3-4D3B-B9DD-8954970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4A49F-EAF0-4D63-A420-5B30570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14C2E-B78E-4CA7-A922-38A1243D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8428B2-A5CB-457B-ADCC-87241734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895129-60CC-46F1-816E-89AAAEF4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838C0-DFE9-4B90-8DEE-02F199ED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C0FF-D3C4-40C9-88E3-7F12A540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C9A5-69FA-4CC3-A492-933C6C23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D8B-0CD3-490E-88F2-64D66658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F62C-DFB3-4258-B447-FD16EFA8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935-91BA-485B-ADC1-7E1625D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6296-9DCC-4187-9F50-8F4F63B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1D3C-207D-4899-B10A-919254D2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CDE1-F744-4247-A026-DAD7F772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C1B-8A0F-46AA-BEE3-29EB9D37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33097-1E14-4D60-AF50-F3FF361A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B0B1-529E-47BE-8070-A36D243F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8C50-50BE-4AEB-A3C3-84E4205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C18C-CE3F-4CB4-BA84-CA9AF86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D4AF-7FF6-4C83-8FAD-28439794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C02-49A0-4BB9-883F-40F846D2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A72B-4565-4B1D-B978-2313BC1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A536-5F11-4F35-917A-728116A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B5E7-35F6-4DAB-9D93-34629902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B981-332C-4CC4-A6CE-E0D1EFD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6F75-69FB-4D97-90EB-F500F200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15FBF-3F6F-469B-B78E-12C773F9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98DE-E04F-4F99-890E-45B524A2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61E9-F645-48BA-945E-1B9A60C1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5DDC-1700-41D1-9295-2914F340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5C5E2-51DD-4F98-8EC4-D4662A7D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721-E051-4857-BC28-0840EEAB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607DF-8E1E-45F8-8F7D-14FF3152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546F3-7138-4BC7-B3AF-C9FB7476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4197-6DCE-4F4C-9D9C-F5D320DD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0ABFD-7487-49BF-8164-FC581F2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5CED1-44A9-44C5-BFEF-FEC88DD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44AF-865E-4CAF-9B20-53D083F2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CE0B-9B29-4CC4-B88A-A40097BB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5DE2-605E-415D-A36E-EA52CBDA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4B23B-4CFC-4887-A646-08F05EE8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14D1-179A-49E2-9E5B-F91B99B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992-A606-4FE7-B8F9-0F189F33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6A6C2-A5C8-442C-80DA-5D978BF9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2ED08-C683-40E8-9CB7-620EF55A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20FF-33AF-43F0-8993-7F85CE4F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BB8BB-2B75-4B28-BCF7-617D59A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64272-654A-4335-94B4-54CB6F8B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179AC-0503-439E-ACD9-4A1009B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5162F-0DAB-4BCE-AB5D-E24A4E8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7E90-7DD6-406E-B437-E15EA6E8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8E642-DF85-4D45-B71D-E224ACAB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347D-4DD8-4ABE-BC58-3612364D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D89-5617-4880-96DA-0935AA4E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831F-AFCB-484A-9EA5-7AB0991D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1B743-6AFA-4F1B-858E-B9A5A8CE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2215-8273-4086-A40E-4153ADA6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9BE4-D06F-4C3A-94BF-3AD5F320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C5991-10AD-4F79-A89E-3C22A2B2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A33B1-6FB7-45E5-9350-22ADC87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88F8-BBAB-4BCC-8A59-26970354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C736C-E048-4DE0-BE50-DBA71E18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96DED-7961-4E9F-9CAD-566B482E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E317-B880-4BF2-97D4-785AF58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6B7-5106-4BAD-9050-517C6946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95DB2-9D4F-442C-B9F6-0D9348E9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6C75-5F07-4776-A6B3-FBAAC06B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6D38C-59AC-491F-B0E6-ECB35D59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E0B4-2C49-47C9-AD36-17354BF7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D4F00-7591-4231-AFDA-83265A6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77B49-FFE3-4DC5-A852-150C1443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BB733-62F1-4A61-BFB4-8C6F426A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29CDA-6AF7-4346-B7CB-AE1F13AF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57381-746A-4454-A1B2-6EA9317B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8718B-2F5C-46AE-BB7C-BD3496F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022-B895-46D8-BA28-ED53E5A7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1C5D7-7337-4D92-920B-51D0D93A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DBD29-9F10-4E77-8CDC-1C055CD8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ADFA3-9D93-49E1-8394-AC74C85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F3573-1EE4-4E76-8BE3-8311C9F4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53F3-F1B4-487A-83D6-32F4FFE9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9F7C3-1DC9-41F2-9F77-10D7340F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F716-F9D3-4E83-A331-4FB57099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94AD8-3D8A-45EB-B5B2-DC5D3CFA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A795F-52FA-4445-AF26-F477053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D3415-FE40-42F4-B1F1-4BCE989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9CB-A878-4EBC-95AA-7C71F469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8451-8F7D-4B4B-AA30-5C02EF96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C858C-C9E1-49F9-93C1-C3A2AE28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36403-FBCC-4C3C-8B87-E67F84C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EC825-7F62-4979-8A2C-4F273B74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7C2A-68D5-414F-A702-7E5F28E7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1A534-9B6C-4E61-8A06-B76DCC93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39EB-DE6C-4CE5-8DD9-F5B1C2DB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90C5C-73C5-4E96-A72A-D7A3A5C2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1E42A-1C39-4252-BAE8-26CAF62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35DB-7866-4610-9E4F-99326DFE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B0DC-9451-4359-9382-351CE5E42E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275C-FE45-4993-AB32-F628C2C370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FEF3-60B3-4E56-92DA-B511E5B121B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8B2C-1C27-450F-B01D-C00F0814C3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7B35-C63E-4549-9BA8-32A672505C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FFA-DFC0-4C73-9132-8504FC16E3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49E3-A30C-4BC5-8112-EA2AEEA3B2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5837-0826-437A-8D9C-8380331E86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CF72-28B3-45B7-958E-966028CBD5C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8027-15ED-448E-8072-9B52806CE8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3CF4-36E2-4B90-81C1-8AE7D0E5B2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5435-6BE4-4A61-9CE7-CC574A67D8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F41C-E67D-4C2B-A0C0-71A1232D14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311-5BA2-4E49-9363-5A23D1FC30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Правила поведения на водоём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5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Если тонет человек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зу громко зовите на помощь: «Человек тонет!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просите вызвать спасателей и «скорую помощь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осьте тонущему спасательный круг, длинную веревку с узлом на конц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8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457200"/>
            <a:ext cx="4038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ahoma"/>
              </a:rPr>
              <a:t>Если тонешь са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паникуй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мите с себя лишнюю одежду, обувь, кричи, з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помощ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вернитесь на спину, широко раскиньте руки, расслабьтесь, сделайте несколько глубоких вдох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дохнув, плывите к берег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"/>
          <p:cNvPicPr/>
          <p:nvPr/>
        </p:nvPicPr>
        <p:blipFill>
          <a:blip r:embed="rId2"/>
          <a:stretch/>
        </p:blipFill>
        <p:spPr>
          <a:xfrm>
            <a:off x="4419720" y="3962520"/>
            <a:ext cx="4495680" cy="289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4572000" y="304920"/>
            <a:ext cx="403848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Вы захлебнулись вод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паникуйте, постарайтесь развернуться спиной к вол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жмите согнутые в локтях руки к нижней части груди и сделайте несколько резких выдохов, помогая себе рук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тем очистите от воды нос и сделайте несколько глотательных движ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сстановив дыхание, ложитесь на живот и двигайтесь к берег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необходимости позовите людей на помощ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6" name="Picture 7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ahoma"/>
              </a:rPr>
              <a:t>Берегите свою жизнь!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мните: несоблюдение правил поведения на водоемах может привести к трагическому исходу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9" name="Picture 7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4572000" cy="396252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 1" descr="http://detsad-kitty.ru/templates/Default/images/sova.gif"/>
          <p:cNvPicPr/>
          <p:nvPr/>
        </p:nvPicPr>
        <p:blipFill>
          <a:blip r:embed="rId2"/>
          <a:stretch/>
        </p:blipFill>
        <p:spPr>
          <a:xfrm>
            <a:off x="6172200" y="4191120"/>
            <a:ext cx="2070000" cy="236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вони по сотовому телефону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61502"/>
                </a:solidFill>
                <a:latin typeface="Tahoma"/>
              </a:rPr>
              <a:t>Телефон службы спас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61502"/>
                </a:solidFill>
                <a:latin typeface="Tahoma"/>
              </a:rPr>
              <a:t>112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4415040" y="74880"/>
            <a:ext cx="3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Calibri"/>
              </a:rPr>
              <a:t>7</a:t>
            </a:r>
            <a:r>
              <a:rPr b="0" lang="ru-RU" sz="9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Школа безопасност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7" name="Рисунок 1" descr="http://detsad-kitty.ru/templates/Default/images/sova.gif"/>
          <p:cNvPicPr/>
          <p:nvPr/>
        </p:nvPicPr>
        <p:blipFill>
          <a:blip r:embed="rId1"/>
          <a:stretch/>
        </p:blipFill>
        <p:spPr>
          <a:xfrm>
            <a:off x="1828800" y="1295280"/>
            <a:ext cx="4724280" cy="472464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1" descr="http://detsad-kitty.ru/templates/Default/images/sova.gif"/>
          <p:cNvPicPr/>
          <p:nvPr/>
        </p:nvPicPr>
        <p:blipFill>
          <a:blip r:embed="rId2"/>
          <a:stretch/>
        </p:blipFill>
        <p:spPr>
          <a:xfrm>
            <a:off x="1981080" y="1447920"/>
            <a:ext cx="472464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Здравствуй, лето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лнышко зажарил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ечку прогрело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вокруг промолвило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то 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ступило !!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о плавать и купаться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игры вместе нам игр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ом нужно наслаждаться!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 заботы забыва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6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10440" cy="378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762120" y="174600"/>
            <a:ext cx="7696080" cy="57880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6"/>
          <p:cNvSpPr/>
          <p:nvPr/>
        </p:nvSpPr>
        <p:spPr>
          <a:xfrm>
            <a:off x="1295280" y="4648320"/>
            <a:ext cx="7162920" cy="12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вежий воздух, солнце, купание не только доставляют удовольствие, но и служат хорошим средством закаливания организм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Нужно знать правила поведен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Tahoma"/>
              </a:rPr>
              <a:t>на воде: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6" name="Picture 6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4"/>
          <p:cNvSpPr/>
          <p:nvPr/>
        </p:nvSpPr>
        <p:spPr>
          <a:xfrm>
            <a:off x="380880" y="2284560"/>
            <a:ext cx="289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пайтесь  в солнечную погоду в реке с ровным дном и если нет сильного теч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емя нахождения в воде  10- 15 мину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181480" cy="43815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1.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Купайтесь только под присмотром взрослых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Не плавайте в незнакомом месте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 следует купаться в незнакомом месте, особенно там, где нет других купальщиков. Ведь дно реки или озера может таить немало опасностей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затопленная коряга, за которую можно случайно зацепиться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осколки стекла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стрые жестянки, о которые можно порезать ноги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- холодные ключи и глубокие ям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ежде чем заходить в воду, посмотрите, как она выглядит. Если цвет или запах воды не такие, как обычно, купаться в ней нельзя.</a:t>
            </a:r>
            <a:br>
              <a:rPr sz="16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4191120" cy="373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3. </a:t>
            </a: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Не хватайте друг друга за руки и ноги во время игр на воде.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гда купается целая компания ребятишек, дети брызгаются, шумят, хватают друг друга за руки и за ноги. Это очень опасно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едь всего за 10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екунд легкие человека заполняются водой, и он может захлебнуться и утонуть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tretch/>
        </p:blipFill>
        <p:spPr>
          <a:xfrm>
            <a:off x="4419720" y="2095560"/>
            <a:ext cx="441936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4. Не купайтесь в холодной воде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холода может свести судорогой ноги и р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 можете переохладиться и забол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6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335400" cy="4419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4-08T11:03:5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f0000000000010243100207f6000400038000</vt:lpwstr>
  </property>
  <property fmtid="{D5CDD505-2E9C-101B-9397-08002B2CF9AE}" pid="3" name="Version">
    <vt:r8>1</vt:r8>
  </property>
</Properties>
</file>